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1DB3F5A-41A2-4473-A0AB-6938B70AC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F73F983-3CDF-412F-B46D-C493EFB377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7188C4A-B44B-4FA8-A505-001678DE52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4EE97D7-2FAD-441A-A73C-52EAE50F47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DB08ED0-CDFD-4B8D-BF81-83DCB3C065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49D47AB-0EC9-4CBE-A395-F125D39A47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C887563-24CD-4E48-B8AF-016E39A478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3C815FA-FE8B-4F1C-A785-E28B37C67F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886E210-2D97-47F9-BDE9-E4E4ECADCB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82970B2-8703-4155-87E1-8F10F58D0F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711C0E9-AFB8-47B0-884F-39129F019D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05E08B8-106B-489F-A31B-64099CA793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80245B2-24EE-428B-9810-C5340D0146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1BB6AAA-1251-4366-8C73-E4901BE8A9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F846-C301-4601-A40D-401FAA3B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E5F1-1E9D-43A7-9802-24BCA25B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5483-97FA-40EA-9A04-051690C8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FC70-55A5-40B3-947E-129BD1BB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A1D4-D9C7-49EE-8D16-152EAFDD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0873-A663-49B6-9D26-307E85C1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4325-9650-4909-83FD-9E027681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37F1-296D-4627-B6D7-6D9FF594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FE71-FE72-45DA-A62D-2E097738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9EC3-32EE-4E4E-A46A-C3D04701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B059-D61B-4152-8014-4CB595E8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1026-3EB6-4F39-8ED7-CD46DBC2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136A-D80D-455F-883E-2C4F15EC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7897-8552-48EB-9B63-977B76F3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0CFF-13EE-4414-A0CB-3C099AA9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22D7-E192-4037-A451-C1426761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EE13-9EA8-4CC4-BCCA-31C553D4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CD5-C5E9-4034-BE85-4B103B4A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336E-1A78-483D-A5E9-4D6E9785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AFE0-6E80-4EA6-AA96-D5C993F0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EAC-72E0-4EBD-8CAD-A655C1BB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C7DC-244C-43AD-997D-7BE218D5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35A-C422-4523-BBD8-0A67F1B1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4FAF-80D2-48E2-93A7-436DD616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69FC-0F00-4102-8DEA-C01C4A255F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C8ED-15FE-4A37-87EC-E7BA0C4DA91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iewmorepics.myspace.com/index.cfm?fuseaction=viewImage&amp;friendID=5488415&amp;albumID=252611&amp;imageID=4530320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295280" y="2057400"/>
            <a:ext cx="6400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sho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133720" y="2514600"/>
            <a:ext cx="4952880" cy="27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g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w ang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mera is on ground or low…and looking up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bject on the screen is powerful or superi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m_13ff5a6cc3c8f15d93893596f2114cd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3886200"/>
            <a:ext cx="266688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0" y="456840"/>
            <a:ext cx="3243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gh ang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63536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mera looks down on the subje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bject on the screen is weak or inferi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6146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7" descr="l_9d4bd62a10d17a8af91e60a4ef5ee1fd"/>
          <p:cNvPicPr/>
          <p:nvPr/>
        </p:nvPicPr>
        <p:blipFill>
          <a:blip r:embed="rId1"/>
          <a:stretch/>
        </p:blipFill>
        <p:spPr>
          <a:xfrm>
            <a:off x="1143000" y="1905120"/>
            <a:ext cx="3200400" cy="2384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l_4e6c39ca5a365b628900ac53057ec89b"/>
          <p:cNvPicPr/>
          <p:nvPr/>
        </p:nvPicPr>
        <p:blipFill>
          <a:blip r:embed="rId2"/>
          <a:stretch/>
        </p:blipFill>
        <p:spPr>
          <a:xfrm>
            <a:off x="5715000" y="1905120"/>
            <a:ext cx="1882800" cy="23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ut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343400" y="2057400"/>
            <a:ext cx="436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ngle is diagonal, crook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ggests action or excite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mething abnormal is going 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8" descr="l_27c0f56de526d76fab1e0c3201e21d06"/>
          <p:cNvPicPr/>
          <p:nvPr/>
        </p:nvPicPr>
        <p:blipFill>
          <a:blip r:embed="rId1"/>
          <a:stretch/>
        </p:blipFill>
        <p:spPr>
          <a:xfrm>
            <a:off x="380880" y="2057400"/>
            <a:ext cx="396252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ng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95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eatures a pers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 people from head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 to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ll body sho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1451912704_l"/>
          <p:cNvPicPr/>
          <p:nvPr/>
        </p:nvPicPr>
        <p:blipFill>
          <a:blip r:embed="rId1"/>
          <a:stretch/>
        </p:blipFill>
        <p:spPr>
          <a:xfrm>
            <a:off x="5562720" y="1905120"/>
            <a:ext cx="282240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dium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eatures the person from about the waist to the hea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1381080703_l"/>
          <p:cNvPicPr/>
          <p:nvPr/>
        </p:nvPicPr>
        <p:blipFill>
          <a:blip r:embed="rId1"/>
          <a:stretch/>
        </p:blipFill>
        <p:spPr>
          <a:xfrm>
            <a:off x="3429000" y="24382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55200"/>
            <a:ext cx="815328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ose-up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eatures a person’s head and should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e are close to the 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ble to more clearly recognize facial express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U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8" descr="l_b338cceeabaf40d97b4e20e4042afe26"/>
          <p:cNvPicPr/>
          <p:nvPr/>
        </p:nvPicPr>
        <p:blipFill>
          <a:blip r:embed="rId1"/>
          <a:stretch/>
        </p:blipFill>
        <p:spPr>
          <a:xfrm>
            <a:off x="4724280" y="3581280"/>
            <a:ext cx="3429000" cy="23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treme Close-u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osest we can get to a person or obje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ye, mouth, watch, doorknob, etc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C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1168813263_l"/>
          <p:cNvPicPr/>
          <p:nvPr/>
        </p:nvPicPr>
        <p:blipFill>
          <a:blip r:embed="rId1"/>
          <a:stretch/>
        </p:blipFill>
        <p:spPr>
          <a:xfrm>
            <a:off x="5943600" y="3809880"/>
            <a:ext cx="2629080" cy="197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a_4eff2cf6aeee56857c9ab5710b0c874c"/>
          <p:cNvPicPr/>
          <p:nvPr/>
        </p:nvPicPr>
        <p:blipFill>
          <a:blip r:embed="rId2"/>
          <a:stretch/>
        </p:blipFill>
        <p:spPr>
          <a:xfrm>
            <a:off x="990720" y="4419720"/>
            <a:ext cx="1904760" cy="142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doorknob_closeup-750x600"/>
          <p:cNvPicPr/>
          <p:nvPr/>
        </p:nvPicPr>
        <p:blipFill>
          <a:blip r:embed="rId3"/>
          <a:stretch/>
        </p:blipFill>
        <p:spPr>
          <a:xfrm>
            <a:off x="3276720" y="4343400"/>
            <a:ext cx="2361960" cy="1577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eye%2520close%2520up"/>
          <p:cNvPicPr/>
          <p:nvPr/>
        </p:nvPicPr>
        <p:blipFill>
          <a:blip r:embed="rId4"/>
          <a:stretch/>
        </p:blipFill>
        <p:spPr>
          <a:xfrm>
            <a:off x="3886200" y="3048120"/>
            <a:ext cx="182880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ablishing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rst shot of a sce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ells where the action will be taking pla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be a build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sig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 a titl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71468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you can click the picture to move forward. until you get to the end."/>
          <p:cNvPicPr/>
          <p:nvPr/>
        </p:nvPicPr>
        <p:blipFill>
          <a:blip r:embed="rId1"/>
          <a:stretch/>
        </p:blipFill>
        <p:spPr>
          <a:xfrm>
            <a:off x="5181480" y="1828800"/>
            <a:ext cx="243864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6"/>
          <p:cNvGrpSpPr/>
          <p:nvPr/>
        </p:nvGrpSpPr>
        <p:grpSpPr>
          <a:xfrm>
            <a:off x="1714680" y="1285920"/>
            <a:ext cx="5143320" cy="360"/>
            <a:chOff x="1714680" y="1285920"/>
            <a:chExt cx="5143320" cy="360"/>
          </a:xfrm>
        </p:grpSpPr>
        <p:sp>
          <p:nvSpPr>
            <p:cNvPr id="120" name="Rectangle 7"/>
            <p:cNvSpPr/>
            <p:nvPr/>
          </p:nvSpPr>
          <p:spPr>
            <a:xfrm>
              <a:off x="1714680" y="1285920"/>
              <a:ext cx="51433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1714680" y="1285920"/>
              <a:ext cx="51433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Rectangle 10"/>
          <p:cNvSpPr/>
          <p:nvPr/>
        </p:nvSpPr>
        <p:spPr>
          <a:xfrm>
            <a:off x="5562720" y="4114800"/>
            <a:ext cx="1904760" cy="1828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ncipal’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2" descr="Before"/>
          <p:cNvPicPr/>
          <p:nvPr/>
        </p:nvPicPr>
        <p:blipFill>
          <a:blip r:embed="rId2"/>
          <a:stretch/>
        </p:blipFill>
        <p:spPr>
          <a:xfrm>
            <a:off x="609480" y="3733920"/>
            <a:ext cx="3200400" cy="2144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ver the shoulder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220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ck of person’s head=foregrou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in character’s head=background, but it is in foc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 know the character is talking to someo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6146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7" descr="OTS"/>
          <p:cNvPicPr/>
          <p:nvPr/>
        </p:nvPicPr>
        <p:blipFill>
          <a:blip r:embed="rId1"/>
          <a:stretch/>
        </p:blipFill>
        <p:spPr>
          <a:xfrm>
            <a:off x="4038480" y="24382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shot with 2 people in 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8" descr="l_59d29de8971e6a11bd99086a4c3993e4"/>
          <p:cNvPicPr/>
          <p:nvPr/>
        </p:nvPicPr>
        <p:blipFill>
          <a:blip r:embed="rId1"/>
          <a:stretch/>
        </p:blipFill>
        <p:spPr>
          <a:xfrm>
            <a:off x="2438280" y="2743200"/>
            <a:ext cx="4419720" cy="330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4:49:30Z</dcterms:created>
  <dc:creator>Administrator</dc:creator>
  <dc:description/>
  <dc:language>en-US</dc:language>
  <cp:lastModifiedBy>Ferris, Erin</cp:lastModifiedBy>
  <dcterms:modified xsi:type="dcterms:W3CDTF">2012-12-12T13:33:05Z</dcterms:modified>
  <cp:revision>15</cp:revision>
  <dc:subject/>
  <dc:title>Slide 1</dc:title>
</cp:coreProperties>
</file>